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06320" y="2597040"/>
            <a:ext cx="72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8800" y="126180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06320" y="259704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38800" y="259704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234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261800"/>
            <a:ext cx="234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31840" y="1261800"/>
            <a:ext cx="234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06320" y="2597040"/>
            <a:ext cx="234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2597040"/>
            <a:ext cx="234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31840" y="2597040"/>
            <a:ext cx="2345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35542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38800" y="1261800"/>
            <a:ext cx="35542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8800" y="1261800"/>
            <a:ext cx="35542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06320" y="259704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355428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8800" y="126180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38800" y="259704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8800" y="1261800"/>
            <a:ext cx="3554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06320" y="2597040"/>
            <a:ext cx="7283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493560" indent="-493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493560" indent="-4935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493560" indent="-493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493560" indent="-493560"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493560" indent="-493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493560" indent="-493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Infrastructure de Communications – CR 4204026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Chapter 1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	</a:t>
            </a:r>
            <a:fld id="{FC9A370D-2F66-4593-86A0-0D8055248BE8}" type="slidenum">
              <a:rPr b="0" lang="en-US" sz="14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563400" y="228600"/>
            <a:ext cx="8134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Arial"/>
              </a:rPr>
              <a:t>Université de Genèv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cc"/>
                </a:solidFill>
                <a:latin typeface="Arial"/>
              </a:rPr>
              <a:t>SES - Département des Systèmes d’Inform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Infrastructure d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420426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rof. Dimitri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Konstanta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UNI Dufour, Bur. 405, tel: 379.7659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. Alfred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illalb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Uni Dufour, Bur. 407 tel: 379.766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ome Network Application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 peer-to-peer system there are no fixed clients and server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9960" y="1666800"/>
            <a:ext cx="785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ome Network Applications (3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me forms of e-commerc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4760" y="2135160"/>
            <a:ext cx="853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bile Network User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binations of wireless networks and mobile computing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9760" y="2254320"/>
            <a:ext cx="852336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 Hardwar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03520" y="1668600"/>
            <a:ext cx="744048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ocal Area Network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etropolitan Area Network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de Area Network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reless Network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me Network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network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roadcast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28320" y="2035080"/>
            <a:ext cx="726588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ypes of transmission technolog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roadcast link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int-to-point link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roadcast Network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lassification of interconnected processors by scal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06400" y="1314360"/>
            <a:ext cx="61596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ocal Area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2840" y="5329080"/>
            <a:ext cx="41576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wo broadcast network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Bu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 R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7320" y="1859040"/>
            <a:ext cx="79138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tropolitan Area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metropolitan area network based on cable TV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03160" y="1351080"/>
            <a:ext cx="7174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de Area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on between hosts on LANs and the subne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14240" y="1844640"/>
            <a:ext cx="78091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de Area Network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stream of packets from sender to receiver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3440" y="1940040"/>
            <a:ext cx="831204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3152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ference Book </a:t>
            </a:r>
            <a:br>
              <a:rPr sz="2400"/>
            </a:b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saux (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omputer Network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ndrew Tanenbaum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/e, Pearson Educ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uxiliary boo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uter Networks – A Systems Approa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rry Peterson &amp; Bruce Davi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/e Morgan Kaufman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reless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9880" y="1780920"/>
            <a:ext cx="717696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tegories of wireless networks: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ystem interconne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ireless LA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ireless WA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reless Network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52480" y="1261800"/>
            <a:ext cx="53370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Bluetooth config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 Wireless L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9800" y="1797120"/>
            <a:ext cx="78994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reless Networks (3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22640" y="1261800"/>
            <a:ext cx="57672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Individual mobile comput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 A flying L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1200" y="2322360"/>
            <a:ext cx="828684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ome Network Categorie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5920" y="1418760"/>
            <a:ext cx="866772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uters (desktop PC, PDA, shared periphera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ntertainment (TV, DVD, VCR, camera, stereo, MP3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lecomm (telephone, cell phone, intercom, fax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pliances (microwave, fridge, clock, furnace, airco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lemetry (utility meter, burglar alarm, babycam)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 Softwar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2240" y="1444320"/>
            <a:ext cx="85914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ocol Hierarchi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ign Issues for the Lay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nection-Oriented and Connectionless Serv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rvice Primitiv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Relationship of Services to Protoco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twork Software</a:t>
            </a:r>
            <a:br>
              <a:rPr sz="4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tocol Hierarchies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yers, protocols, and interfac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1343160"/>
            <a:ext cx="487980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otocol Hierarchies (2)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1072800"/>
            <a:ext cx="7283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hilosopher-translator-secretary architectur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55720" y="1666800"/>
            <a:ext cx="5437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rotocol Hierarchies (3)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information flow supporting virtual communication in layer 5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3800" y="1247760"/>
            <a:ext cx="68911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esign Issues for the Layer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920" y="1849320"/>
            <a:ext cx="8591400" cy="30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onnection-Oriented and Connectionless Service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06320" y="1469880"/>
            <a:ext cx="72835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x different types of servic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5560" y="2654280"/>
            <a:ext cx="78152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ourse organization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87320" y="1709280"/>
            <a:ext cx="7367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P are obligato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/3 of final mark (2 point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id for both sessio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al Exam (obligatory!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pen bo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hou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ervice Primitive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5280" y="1261800"/>
            <a:ext cx="63450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ve service primitives for implementing a simple connection-oriented service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8560" y="2940120"/>
            <a:ext cx="78454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ervice Primitive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8800" y="1261800"/>
            <a:ext cx="73231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ckets sent in a simple client-server interaction on a connection-oriented network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760" y="3008160"/>
            <a:ext cx="82389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ervices to Protocols Relationship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elationship between a service and a protocol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6200" y="2319480"/>
            <a:ext cx="777240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ference Model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3120" y="1618920"/>
            <a:ext cx="848052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 OSI Reference Mod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 TCP/IP Reference Mod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Comparison of OSI and TCP/IP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Critique of the OSI Model and Protoco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Critique of the TCP/IP Reference Mod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ference Model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011320" y="1008000"/>
            <a:ext cx="6945480" cy="5697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74680" y="2681280"/>
            <a:ext cx="17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SI reference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ference Model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CP/IP reference model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4920" y="1955880"/>
            <a:ext cx="7148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ference Models (3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tocols and networks in the TCP/IP model initially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5360" y="2255760"/>
            <a:ext cx="79405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omparing OSI and TCP/IP Model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5240" y="1806480"/>
            <a:ext cx="75405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cepts central to the OSI mode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toco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 Critique of the OSI Model and Protocols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52480" y="1517400"/>
            <a:ext cx="770256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hy OSI did not take over the worl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d tim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d technolog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d implementa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ad poli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ad Timing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apocalypse of the two elephant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14320" y="1724040"/>
            <a:ext cx="784692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ourse WWW sit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4520" y="1676160"/>
            <a:ext cx="716112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http://dokeos.unige.ch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Inscrivez-vo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cc"/>
                </a:solidFill>
                <a:latin typeface="Arial"/>
              </a:rPr>
              <a:t>http://cui.unige.ch/OS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"/>
              </a:rPr>
              <a:t>Materiel additio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 Critique of the TCP/IP Reference Model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120" y="1355400"/>
            <a:ext cx="8232840" cy="36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rvice, interface, and protocol not distinguishe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t a general mod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st-to-network “layer” not really a lay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mention of physical and data link lay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nor protocols deeply entrenched, hard to replac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ybrid Model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hybrid reference model to be used in this book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38560" y="2249640"/>
            <a:ext cx="289548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ple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880" y="1269720"/>
            <a:ext cx="8493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nection-Oriented Networks: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  X.25, Frame Relay, and AT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therne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reless LANs: 802:11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ARPANE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28440" y="1261800"/>
            <a:ext cx="76993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Structure of the telephone system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 Baran’s proposed distributed switching system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66800" y="2351160"/>
            <a:ext cx="57578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ARPANET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original ARPANET desig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040" y="2317680"/>
            <a:ext cx="76978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ARPANET (3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3480" y="5703840"/>
            <a:ext cx="824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owth of the ARPANET  (a) December 1969.   (b) July 1970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c) March 1971.    (d)  April 1972.    (e) September 1972.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6400" y="1274760"/>
            <a:ext cx="7103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SFNE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NSFNET backbone in 1988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77960" y="2028960"/>
            <a:ext cx="797724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nternet Usage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606680"/>
            <a:ext cx="842976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raditional applications (1970 – 1990)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-mai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ew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mote logi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ile transf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rchitecture of the Interne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 of the Interne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7480" y="2055960"/>
            <a:ext cx="68166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TM Virtual Circuit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virtual circui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0040" y="2324160"/>
            <a:ext cx="8118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9000" y="3214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0680" y="1390320"/>
            <a:ext cx="64008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TM Virtual Circuit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 ATM cell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4800" y="3111480"/>
            <a:ext cx="82886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ATM Reference Model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ATM reference model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66840" y="1647720"/>
            <a:ext cx="850104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ATM Reference Model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58150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ATM layers and sublayers and their function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60640" y="1257480"/>
            <a:ext cx="700056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chitecture of the original Ethernet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78000" y="2160720"/>
            <a:ext cx="8361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reless LAN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6240" y="5400720"/>
            <a:ext cx="826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a) Wireless networking with a base station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b) Ad hoc networking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25400" y="1882800"/>
            <a:ext cx="78217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41320" y="1446120"/>
            <a:ext cx="7502760" cy="505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reless LANs (2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range of a single radio may not cover the entire system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ireless LANs (3)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multicell 802.11 network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9200" y="2316240"/>
            <a:ext cx="817092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etwork Standardization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6000" y="1746360"/>
            <a:ext cx="834228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o’s Who in the Telecommunications Worl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o’s Who in the International Standards Worl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o’s Who in the Internet Standards Worl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TU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120" y="1255320"/>
            <a:ext cx="8642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in sect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adiocommunicatio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lecommunications Standardiz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asses of Memb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tional govern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tor memb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sociate memb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ulatory agenci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1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EEE 802 Standard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13139" t="0" r="0" b="0"/>
          <a:stretch/>
        </p:blipFill>
        <p:spPr>
          <a:xfrm>
            <a:off x="1665360" y="853920"/>
            <a:ext cx="5864040" cy="4486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1680" y="5519880"/>
            <a:ext cx="85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802 working groups.  The important ones are marked with *.  The ones marked wi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hibernating.  The one marked with  † gave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Uses of Computer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41600" y="1730520"/>
            <a:ext cx="75024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siness Applic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me Applic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ocial Issu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etric Unit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53658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principal metric prefix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7520" y="1917720"/>
            <a:ext cx="8524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usiness Applications of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network with two clients and one server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2187720"/>
            <a:ext cx="672480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Business Applications of Network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6320" y="1261800"/>
            <a:ext cx="728352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client-server model involves requests and replies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6120" y="2654280"/>
            <a:ext cx="86583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Home Network Applications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6320" y="1767960"/>
            <a:ext cx="7716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ccess to remote inform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erson-to-person communic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teractive entertain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ectronic commer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9:04:26Z</dcterms:created>
  <dc:creator>Steve Armstrong</dc:creator>
  <dc:description/>
  <dc:language>en-US</dc:language>
  <cp:lastModifiedBy>dimitri</cp:lastModifiedBy>
  <dcterms:modified xsi:type="dcterms:W3CDTF">2005-10-26T08:42:42Z</dcterms:modified>
  <cp:revision>31</cp:revision>
  <dc:subject/>
  <dc:title>Introduction</dc:title>
</cp:coreProperties>
</file>