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20257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20257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20257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15876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15876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20257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20257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20257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15876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5876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20257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20257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876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20257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-146160">
              <a:spcBef>
                <a:spcPts val="601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237600" indent="-1278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329040" indent="-10944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420480" indent="-9108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530280" indent="-91080"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530280" indent="-9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530280" indent="-9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frastructure de Communications – CR 4107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Chapter 3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fld id="{F99380AA-A6BD-4E0A-A0D0-C7AA313F69B9}" type="slidenum">
              <a:rPr b="0" lang="en-US" sz="14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12880" y="3081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he Data Link Layer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441440" y="138240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 Detection and Correc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0640" y="1817640"/>
            <a:ext cx="716616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rror-Correcting Cod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rror-Detecting Cod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-Correcting Cod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se of a Hamming code to correct burst error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2800" y="2174760"/>
            <a:ext cx="46940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-Detecting Cod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76720" y="1319040"/>
            <a:ext cx="3502080" cy="499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36680" y="427032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 of the polynomial code checks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mentary Data Link Protoc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3360" y="1670040"/>
            <a:ext cx="81802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n Unrestricted Simplex Protoco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Simplex Stop-and-Wait Protoco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Simplex Protocol for a Noisy Chann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 Window Protoc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9040" y="1870200"/>
            <a:ext cx="84549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One-Bit Sliding Window Protoco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Protocol Using Go Back 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Protocol Using Selective Repe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 Window Protocol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4185720"/>
            <a:ext cx="8629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sliding window of size 1, with a 3-bit sequence number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Initially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fter the first frame has been sen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fter the first frame has been received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d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fter the first acknowledgement has been received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31960" y="1036800"/>
            <a:ext cx="52498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ne-Bit Sliding Window Protoc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2825"/>
          <a:stretch/>
        </p:blipFill>
        <p:spPr>
          <a:xfrm>
            <a:off x="677880" y="1257480"/>
            <a:ext cx="8112240" cy="480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37320" y="6350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One-Bit Sliding Window Protocol (ctd.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47361" r="0" b="0"/>
          <a:stretch/>
        </p:blipFill>
        <p:spPr>
          <a:xfrm>
            <a:off x="703440" y="1254240"/>
            <a:ext cx="797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One-Bit Sliding Window Protocol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5760" y="4684320"/>
            <a:ext cx="886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Normal case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bnormal case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notation is (seq, ack, packet number).  An asterisk indicates where a network layer accepts a packe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85760" y="1233360"/>
            <a:ext cx="69786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Protocol Using Go Back 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400" y="5256000"/>
            <a:ext cx="836748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pelining and error recovery.  Effect on an error w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Receiver’s window size is 1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Receiver’s window size is larg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41600" y="762120"/>
            <a:ext cx="5722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ta Link Layer Design Issu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301400"/>
            <a:ext cx="83185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rvices Provided to the Network Lay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ram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rror Contro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 Contro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ocol Ver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89120" y="1568520"/>
            <a:ext cx="835488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nite State Machined Mode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etri Net Mode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nite State Machined Mode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5762160"/>
            <a:ext cx="7962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te diagram for a protocol.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ransmission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560" y="1720800"/>
            <a:ext cx="7534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tri Net Mode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Petri net with two places and two transition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5800" y="2755800"/>
            <a:ext cx="72914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tri Net Model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Petri net model for protocol 3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19160" y="1012680"/>
            <a:ext cx="556416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 Data Link Protoco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1200" y="2095560"/>
            <a:ext cx="854244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DLC – High-Level Data Link Contro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he Data Link Layer in the Interne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-Level Data Link Contr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ame format for bit-oriented protocol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3800" y="2870280"/>
            <a:ext cx="782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gh-Level Data Link Control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04800" y="4599000"/>
            <a:ext cx="673884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rol field of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 information fram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 supervisory fram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n unnumbered fram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95360" y="1492200"/>
            <a:ext cx="61326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ata Link Layer in the Interne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home personal computer acting as an internet hos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04640" y="2165400"/>
            <a:ext cx="81867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P – Point to Point Protoc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PP full frame format for unnumbered mode operatio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7680" y="2801880"/>
            <a:ext cx="7956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P – Point to Point Protocol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simplified phase diagram for bring a line up and dow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82720" y="1477800"/>
            <a:ext cx="574056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nctions of the Data Link Lay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4960" y="1636560"/>
            <a:ext cx="85186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vide service interface to the network lay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aling with transmiss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gulating data flow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low receivers not swamped by fast send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P – Point to Point Protocol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73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LCP frame typ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00160" y="2138400"/>
            <a:ext cx="648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nctions of the Data Link Layer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onship between packets and fram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1120" y="2100240"/>
            <a:ext cx="78674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ices Provided to Network Lay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2080" y="1587600"/>
            <a:ext cx="6451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Virtual communicatio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Actual communicatio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22280" y="2428920"/>
            <a:ext cx="631188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ices Provided to Network Layer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lacement of the data link protocol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77920" y="2201760"/>
            <a:ext cx="68882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a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587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character stream.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Without errors.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With one error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01600" y="2333520"/>
            <a:ext cx="70488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am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6000" y="1587600"/>
            <a:ext cx="85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A frame delimited by flag bytes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Four examples of byte sequences before and after stuffing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52680" y="2505240"/>
            <a:ext cx="5945040" cy="37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raming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080" y="4605480"/>
            <a:ext cx="862956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it stuff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he original data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he data as they appear on the lin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c)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The data as they are stored in receiver’s memory after destuffing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09880" y="1857240"/>
            <a:ext cx="5267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21:28:42Z</dcterms:created>
  <dc:creator>Steve Armstrong</dc:creator>
  <dc:description/>
  <dc:language>en-US</dc:language>
  <cp:lastModifiedBy>dimitri konstantas - University of Geneva</cp:lastModifiedBy>
  <dcterms:modified xsi:type="dcterms:W3CDTF">2004-11-03T09:14:58Z</dcterms:modified>
  <cp:revision>26</cp:revision>
  <dc:subject/>
  <dc:title>The Data Link Layer</dc:title>
</cp:coreProperties>
</file>