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E186-DA61-41D6-908B-8AD528EE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AB9D-7D58-4EA9-85B0-EF3CAB23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E85E-CC52-440B-8A15-560D0A7A3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DB0F-328D-4B28-BF2F-215728DDB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A725-6E18-48F8-AF02-6291E2CD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FB2B-80E0-42BB-959F-AE004C2F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8C75-947F-4BD8-A986-799D6252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9F0A-15DB-4617-92A6-B829BDDE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EBBE-7195-4A72-9754-ACEC74B0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506D-2AD3-4329-B7B5-D3CE50F7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E602-16FB-4C22-BAE4-5F773DF0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B83F-0633-4543-A87F-85873273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C953-468C-4550-926B-21568D9251A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roduction aux Systèmes de Gestion de Bases de donné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. Dupuy-Chessa, M.Léon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YSINF-SES-C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IVERSITE DE GEN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s donné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donnée prend un lieu et y re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donnée ne peut être atteinte qu’au travers de son nom, autant par les développeurs que par les utilisateu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1676520"/>
            <a:ext cx="3504960" cy="40384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2743200"/>
            <a:ext cx="11430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78560" y="28940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4800600"/>
            <a:ext cx="11430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4724280"/>
            <a:ext cx="12956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40840" y="49514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I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14240" y="487512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AL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019920" y="3352680"/>
            <a:ext cx="45720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38880" y="3352680"/>
            <a:ext cx="45720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629400" y="5181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86400" y="2286000"/>
            <a:ext cx="9907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5333760" y="2438280"/>
            <a:ext cx="99036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ase de données (B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Systèmes de gestion de base de données (SGB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inc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onctionnal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odèles de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ystèmes de Gestion de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Bases de Donné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838080" y="1676520"/>
            <a:ext cx="6172200" cy="4571640"/>
            <a:chOff x="838080" y="1676520"/>
            <a:chExt cx="6172200" cy="4571640"/>
          </a:xfrm>
        </p:grpSpPr>
        <p:sp>
          <p:nvSpPr>
            <p:cNvPr id="89" name=""/>
            <p:cNvSpPr/>
            <p:nvPr/>
          </p:nvSpPr>
          <p:spPr>
            <a:xfrm>
              <a:off x="838080" y="1676520"/>
              <a:ext cx="160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Program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56520" y="175248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Termi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26400" y="563868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B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49960" y="16765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43000" y="2286000"/>
              <a:ext cx="762120" cy="7621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33920" y="2286000"/>
              <a:ext cx="10666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943600" y="2209680"/>
              <a:ext cx="106668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29000" y="3352680"/>
              <a:ext cx="29718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SGB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00200" y="3048120"/>
              <a:ext cx="1828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67080" y="2895480"/>
              <a:ext cx="533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5867280" y="2895480"/>
              <a:ext cx="609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590920" y="5181480"/>
              <a:ext cx="761760" cy="1066680"/>
              <a:chOff x="2590920" y="5181480"/>
              <a:chExt cx="761760" cy="1066680"/>
            </a:xfrm>
          </p:grpSpPr>
          <p:sp>
            <p:nvSpPr>
              <p:cNvPr id="101" name=""/>
              <p:cNvSpPr/>
              <p:nvPr/>
            </p:nvSpPr>
            <p:spPr>
              <a:xfrm>
                <a:off x="2590920" y="5181480"/>
                <a:ext cx="76176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590920" y="5867280"/>
                <a:ext cx="76176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590920" y="533376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352680" y="541008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4419720" y="5105520"/>
              <a:ext cx="761760" cy="1066680"/>
              <a:chOff x="4419720" y="5105520"/>
              <a:chExt cx="761760" cy="1066680"/>
            </a:xfrm>
          </p:grpSpPr>
          <p:sp>
            <p:nvSpPr>
              <p:cNvPr id="106" name=""/>
              <p:cNvSpPr/>
              <p:nvPr/>
            </p:nvSpPr>
            <p:spPr>
              <a:xfrm>
                <a:off x="4419720" y="5105520"/>
                <a:ext cx="76176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419720" y="5791320"/>
                <a:ext cx="76176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419720" y="525780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181480" y="53341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6248520" y="5181480"/>
              <a:ext cx="761760" cy="1066680"/>
              <a:chOff x="6248520" y="5181480"/>
              <a:chExt cx="761760" cy="1066680"/>
            </a:xfrm>
          </p:grpSpPr>
          <p:sp>
            <p:nvSpPr>
              <p:cNvPr id="111" name=""/>
              <p:cNvSpPr/>
              <p:nvPr/>
            </p:nvSpPr>
            <p:spPr>
              <a:xfrm>
                <a:off x="6248520" y="5181480"/>
                <a:ext cx="76176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248520" y="5867280"/>
                <a:ext cx="76176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248520" y="533376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010280" y="541008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4724280" y="403848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2895120" y="4038480"/>
              <a:ext cx="12956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86400" y="4038480"/>
              <a:ext cx="12193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onctionnalités d’un SGB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scription et utilisation des informations (définition, interrogation, mise-à-jo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estion et contrôle d’intég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ise en œuvre de la confidenti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estion des accès concur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ssurance d’une certaine sécurité de foncti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errogation d’une B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terroger les données de la B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grammer la recher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ngage plus ou moins compl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terrogation visuelle, tactile, vocale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xploiter les liens entre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river de nouvelles in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Gestion de l’intégri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modifications de la base (insertion, suppression, modification) doivent respecter les coutumes du monde ré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6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ructuration de la B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finition de règles d’intég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I = propriété devant toujours être vérifiée par les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emple : un chauffeur ne doit pas conduire plus de 40h par sema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Gestion de la confidentiali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D partagée par plusieurs utilisa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52600" indent="-7632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e rendre accessibles certaines données qu’aux personnes autorisé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2600" indent="-76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finition de droits d’accès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finir quelles informations doivent être protégées de quelles person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2600" indent="-76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emple : les usagers n’ont pas à connaître les horaires des chauffe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currence d’accè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ccès simultané aux données par plusieurs utilisa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tecter les éventuels confl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tra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emple : vouloir affecter des chauffeurs à plusieurs lignes simultané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raiter les demandes séquentiellement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écurité de fonctionn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ssurer le redémarrage du système en cas d’incident logiciel ou matéri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mettre la BD dans un état satisfais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ase de données (B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ystèmes de gestion de bases de données (SGB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Modèles de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istori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Base de données (B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données et leur struct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ystèmes de gestion de base de données (SGB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odèles de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scription d’une B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0720" y="1981080"/>
            <a:ext cx="2399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chéma exte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66600" y="2970360"/>
            <a:ext cx="2855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chéma concept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9600" y="2960640"/>
            <a:ext cx="2314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chéma inte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4320" y="518004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iveau exte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6680" y="5180040"/>
            <a:ext cx="26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iveau concept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6000" y="5181480"/>
            <a:ext cx="21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iveau inte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0720" y="2971800"/>
            <a:ext cx="2399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chéma exte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0720" y="3962520"/>
            <a:ext cx="2399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chéma exte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01440" y="144792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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6000" y="236232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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6000" y="350532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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01440" y="457200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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60160" y="1446120"/>
            <a:ext cx="187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ma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’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62520" y="1371600"/>
            <a:ext cx="205740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18040" y="240192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dé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7696080" y="4114800"/>
            <a:ext cx="762120" cy="1066680"/>
            <a:chOff x="7696080" y="4114800"/>
            <a:chExt cx="762120" cy="1066680"/>
          </a:xfrm>
        </p:grpSpPr>
        <p:sp>
          <p:nvSpPr>
            <p:cNvPr id="150" name=""/>
            <p:cNvSpPr/>
            <p:nvPr/>
          </p:nvSpPr>
          <p:spPr>
            <a:xfrm>
              <a:off x="7696080" y="4114800"/>
              <a:ext cx="76212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96080" y="4800600"/>
              <a:ext cx="76212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696080" y="42670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458200" y="43434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996960" y="43830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0010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7180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71800" y="32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22096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9320" y="5791320"/>
            <a:ext cx="20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SI-SPA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odèle de donné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finition : ensemble de concepts et des notations pour décrire une vision d’un domaine d’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rès nombreux modèl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dèles conceptuels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tité-Association, relationnel, Merise, objet, UML, Z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dèles « systèmes » (offerts par les SGBD)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iérarchique, relationnel, objet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960 : les modèles hiérarchi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970 : les modèles rése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980 : les modèles relati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990 : les modèles objets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xemple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hauffeur (C), Véhicule (V), Permis (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odèle hiérarch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odèle Rés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88520" y="3124080"/>
            <a:ext cx="400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12040" y="3952800"/>
            <a:ext cx="383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855200" y="3962520"/>
            <a:ext cx="383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10280" y="3583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91320" y="38116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001000" y="3811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3811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odèles hiérarchique et rés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721480" y="4648320"/>
            <a:ext cx="2517120" cy="1297800"/>
            <a:chOff x="5721480" y="4648320"/>
            <a:chExt cx="2517120" cy="1297800"/>
          </a:xfrm>
        </p:grpSpPr>
        <p:sp>
          <p:nvSpPr>
            <p:cNvPr id="176" name=""/>
            <p:cNvSpPr/>
            <p:nvPr/>
          </p:nvSpPr>
          <p:spPr>
            <a:xfrm>
              <a:off x="6864840" y="4648320"/>
              <a:ext cx="400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21480" y="5486400"/>
              <a:ext cx="3834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55200" y="5486400"/>
              <a:ext cx="3834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571644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5867280" y="4878360"/>
              <a:ext cx="99072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238880" y="4878360"/>
              <a:ext cx="76212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odèle relati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lation = représentation d’une association particulière entre certains constitu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xempl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hauffeur(NoCh//Nom,Prénom,Adresse,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{le chauffeur ayant pour numéro NoCh, pour nom «Nom», pour prénom «Prénom» et pour adresse «Adresse» …}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571560" y="2971800"/>
            <a:ext cx="2094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AUFF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Chauff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én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anger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jouterHe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24400" y="2897280"/>
            <a:ext cx="22096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24400" y="327816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24400" y="457344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odèle ob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odèle ob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 nombreux concepts :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lasse, opération, association, héritage, agrég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cepts principaux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lasse = ensemble d’objets ayant la même structure de données et le même compor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ssociation = liens entre les objets des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pération/méthode = s’applique aux objets d’une c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odèle de donné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cepts généraux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entités/classes appelées aussi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relation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chauffeurs, des véhicules, des lig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relations/associations entre des entités/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chauffeur assure une ligne, conduit un véhicule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xemple : gestion d’une entreprise de transpor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ntreprise « GPT » qui s ’occupe des transports publics de la ville d’Evèneg, désire se doter d’un système informatique pour la gestion de son réseau. Celui-ci comprend des lignes, des véhicules ainsi que des chauffe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chauffeur « Boubou » est en congé le lundi 30 octobre.  Le 31 octobre, il assure la ligne 2 avec le véhicule 56…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stion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 véhicule doit-il toujours assurer la même lig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i a assuré la ligne C le 3 octobre entre 16h et 18h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ment enregistrer et utiliser les informations concernant l’entrepri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urquoi des Bases de données (BD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esoin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stocker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gros volum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’inform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artage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es informations par une communauté de person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gérer l’accè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à ces inform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érer des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nformations cohérentes et non-redond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otion de Base de Donné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e BD doit traduire la connaissanc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faits élémentaires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chauffeur « Boubou » est affecté à la ligne 2 le 24 juin 199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propriété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chauffeur a un seul permis de conduire, mais est compétent pour plusieurs types de véhic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’événemen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véhicule 124 est supprimé de la circ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finition (Adiba, Delobel 1982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sembl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structuré de donné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enregistrées sur des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supports informatiqu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pour satisfaire simultanément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lusieurs utilisateur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façon sélective et en temps opport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s donné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xempl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chauffeur Boubou assure la ligne 2 avec le véhicule 5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chauffeur Boubou assure la ligne A avec le véhicule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chauffeur Lulu assure la ligne 2 avec le véhicule 8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donné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hauffeur = {Boubou, Lulu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éhicule = {25,4,56,86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igne = {A,2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données structuré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scription ou schéma de la B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273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hauffeur M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273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igne M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273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éhicule M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tructuration des donné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22960" y="289404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oub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30800" y="2894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30800" y="3427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21880" y="28940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21880" y="38084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14480" y="380988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u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22960" y="342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oub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82000" y="3427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30800" y="3808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6040" y="251316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hauff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5160" y="251316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ig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92560" y="251316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éhi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18:46:58Z</dcterms:created>
  <dc:creator>Sophie DUPUY</dc:creator>
  <dc:description/>
  <dc:language>en-US</dc:language>
  <cp:lastModifiedBy>LEONARD MICHEL</cp:lastModifiedBy>
  <cp:lastPrinted>2000-10-28T13:13:52Z</cp:lastPrinted>
  <dcterms:modified xsi:type="dcterms:W3CDTF">2002-10-28T08:14:49Z</dcterms:modified>
  <cp:revision>71</cp:revision>
  <dc:subject/>
  <dc:title>Notion de Base de Données</dc:title>
</cp:coreProperties>
</file>