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172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©S. Dupuy, M. Léonard, T:Le, Université de Genève, 16/11/2001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20AD6A8-4DCE-4CFB-8300-3013E83939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érations sur une relation/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. Dupuy-Chessa, M. Léonard, T.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INF-SES-C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ERSITE DE GEN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pérations ensembli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Inter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Calcul sur un ensemble de n-up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Les regroup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= ensemble des n-uplets qui appartiennent à l’une des deux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S = { n | n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 ou n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}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 : domaines des attributs iden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nel = R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select CR from R Union select CS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ion : exempl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els sont les chauffeurs identifiés par leur numéro AVS qui ont travaillé le 25 ou le 31 décembre 9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ationnel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F-CHAUFFEUR [DateAff = 25-12-99] [NoAVS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F-CHAUFFEUR [DateAff = 31-10-99] [NoAV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Q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NoAVS from AFF-CHAUFFEU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25-12-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 NoAVS from AFF-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31-12-9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ifférenc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ion = ensemble des n-uplets qui appartiennent à la 1ère relation et qui n’appartiennent pas à la 2è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 - S = { n | n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 et n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dition : domaines des attributs ident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nelle :  R -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CR from R minus select CS from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CR from R where CR not in (select CS from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ifférence : exe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s sont les chauffeurs identifiés par leur numéro AVS qui ne travaillent pas le 31 octobre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lationne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UFFEUR[NoAVS]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F-CHAUFFEUR [DateAff = 31-10-00] [NoAV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ifférence : exempl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 :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NoAVS from 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 NoAVS from AFF-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31-10-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 : solu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NoAVS from 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NoAVS no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elect  NoAVS from AFF-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31-10-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ers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inition = ensemble des n-uplets qui appartiennent aux deux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 = { n | n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 et n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 : domaines des attributs iden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ation relationnelle = R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CR from R intersect select CS from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CR from R where CR in (select CS from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ersection : exe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s sont les chauffeurs identifiés par leur numéro AVS qui ont travaillé le 25 et le 31 décembre 9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lationne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-CHAUFFEUR [DateAff = 25-12-99] [NoAVS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-CHAUFFEUR [DateAff = 31-10-00] [NoAV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ersection : exempl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solu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NoAVS from AFF-CHAUFF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25-12-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 NoAVS from AFF-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31-12-9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solut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NoAVS from AFF-CHAUFF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25-12-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NoAV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  NoAVS from AFF-CHAUFF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DateAff = 31-12-9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lcul sur des n-u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nctions utilisables dans la clause selec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m : somme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 : élément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x : élément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nt : nombre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g : moyenne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 quel est le nombre de chauffe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ect count(NoAVS) from CHAUFFEU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: gestion d’une entreprise de transport 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entreprise « GPT » qui s ’occupe des transports publics de la ville d’Evèneg, désire se doter d’un système d’information pour la gestion de son réseau. Celui-ci comprend des lignes, des véhicules ainsi que des chauffe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ause Group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p By : déterminer un partionnement suivant un crit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: quel est le nombre d’heures moyen effectuées par un chauff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ect NoAVS , avg(NbHe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m HEURE-CHAUFF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oup By NoAV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ause H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use Having : effectuer un filtre sur les entités faisant partie des partitions d’un Group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quel est le nombre d’heures moyen effectuées par les chauffeurs qui ont conduit un jour plus de 10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NoAVS , avg(NbHe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HEURE-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roup By NoAV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ving max(NbHeures)&gt;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nipulation sur une relation/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érer une n-uplet dans une relation en spécifiant les valeurs à insér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érer un ensemble de n-uplets dans une relation provenant d'une sé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sertion: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lationnel: r :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 into R values (val1, val2, …, val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 into R (att1, att2, …,attn) values (val1, val2, …, val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 into R select * from S where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tt1, att2,…, attn :  la liste des noms des attrib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val1, val2,…,valn : les valeurs à insé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 : le prédi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sertion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jouter le chauffeur Boubo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Q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ert into CHAUFFEUR (AVS, NOM, PRENOM, ADRESSE, DATENAISSANCE, SEXE, TOTALHEURES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‘0123456’, ‘LE’, ‘Boubou’, ’24 Général Dufour’, ’31-01-80’,’M’,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ifier les valeurs d'un ou plusieurs attributs, dans une ou plusieurs n-uplets existants d'une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dification: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lationnel: (r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 ’)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pdat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t att1 = exp1, att2 = exp2,…, attn = ex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re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pdat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t (att1,…,attn) = (select * from S where P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re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p1, exp2,…,expn : les expressions P, P1, P2 : l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dification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au chauffeur BouBou (qui a le numéro AVS égal ‘0123456’) un total d’heure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Q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date CHAUFF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TOTALHEURES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NOAVS = ‘0123456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rimer un ensemble des n-uplets d'une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nel:  r :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lete from R wher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chéma rela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UFFEU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NoAVS//Nom,Prénom, Adresse,DateNaissance,Sexe,TotalHe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IS (NoAVS,Catégorie//DatePer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HICU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NoVéhicule//Catégorie,Marque,NoChassis,NoMoteur,DateCirc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E (CodeLigne//Catégorie,TypeLigne,ArretDepart,ArretArriv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F-VÉHIC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NoVéhicule, DateAff //StatutVéhicule,CodeLigne,StatutAffec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F-CHAUFFEUR (NoAVS, DateAff // StatutChauffeur,NoSé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CHE-SÉRIE (NoSérie,CodeLigne//HeureDébut,HeureF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URE-CHAUFFEUR (NoVéhicule,DateAff,NoAVS//NbHe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ppression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rimer le chauffeur BouBou (qui a le numéro AVS égal ‘0123456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Q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lete from CHAUFF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ere NOAVS = ‘0123456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nterrogation d’une relation/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Sé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Valeur nu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= restriction de la relation à un sous-ensemble de ses attrib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[C] = { n[C] | n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ù n[C] est la projection du n-uplet n sur les attribut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nel R[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select C from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jection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s sont les noms des chauffe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lationnel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UFFEUR[No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Q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Nom from 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distinct Nom from 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é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: restriction de la relation à un sous-ensemble de n-uplets suivant un prédica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[P]  = { n | n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R et P(n)=vrai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nel R [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: select * from R where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élection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s sont les chauffeurs de sexe fémin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lationne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UFFEUR [Sexe= `féminin´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Q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re Sexe = `féminin´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aleur nu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se Null : tester si une valeur est ob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lt;exp&gt; is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lt;exp&gt; is no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 quels sont les chauffeurs dont on ne connaît pas l’adres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ect Nom,Pré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m CHAUFF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ere Adresse is nul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21:14Z</dcterms:created>
  <dc:creator>Sophie DUPUY</dc:creator>
  <dc:description/>
  <dc:language>en-US</dc:language>
  <cp:lastModifiedBy>Le Dinh Thang</cp:lastModifiedBy>
  <cp:lastPrinted>2001-11-16T09:59:30Z</cp:lastPrinted>
  <dcterms:modified xsi:type="dcterms:W3CDTF">2004-11-12T11:12:16Z</dcterms:modified>
  <cp:revision>60</cp:revision>
  <dc:subject/>
  <dc:title>Interrogation de Base de données</dc:title>
</cp:coreProperties>
</file>