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364-81A1-4568-B05B-C006D6F4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12A-8498-404F-AEC6-3273EEC1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3AD-4F27-4A54-B0AA-E6659C57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3A0-2309-4A9F-973D-357124F3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3B47-AA0C-4F49-A7CF-2ABEC643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6041-2BCC-4720-9AE5-FC3D2159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DF97-A53B-4D99-9FA8-AB2C2AF8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1C21-7024-422A-9209-29EAA09E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D8C-4C1A-4A70-BDE4-21F3221A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3CDC-CAF8-4239-8301-6B50B6FF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643A-A264-411E-97EA-0B5AADD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EFE-6712-4270-992E-E1432D51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4A68-292D-4C6B-8CF8-D9889427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31D8-F7DB-43B7-899C-B39D687E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0FD0-6DE6-47C0-B153-95D5AD8D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7C6F-4805-4CC6-99F7-D925EF77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A548-7639-42ED-9D6B-862F6BFE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4FB-C792-4A90-9A90-A352441F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D25-C467-43E0-8BA8-E4E2305D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711-BB7D-4011-A9FB-53185912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3BA-8728-479F-8A2E-7E2C495F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AE9-152F-42B9-9885-48ADD8F9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70B-6FF5-437B-A518-DE68917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6C7-683C-471A-988E-0B5C095E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E4D7-6C5F-442D-B9EF-E9EF302689D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DB31-8CF8-4099-B994-84E40684FA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P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Programme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éez 3 variables de type enti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ockez la valeur 5 dans la premiè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ockez la valeur 10 dans la deuxiè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lculez la multiplication des 2 premiè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ockez le résultat dans la troisiè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ffichez la troisième à l’éc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P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Programme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éez 3 variables de type enti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itialisez les 3 variables au clavi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lculez le maximum des 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ffichez le maximu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bd189"/>
                </a:solidFill>
                <a:latin typeface="Arial"/>
              </a:rPr>
              <a:t>Exerc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Evaluez les expressions ci-dess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a = 5, b = 4, c = 8, d = true, e = fal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(a &gt;=b) ¦¦ 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d &amp;&amp; (c &lt;= b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e ¦¦ ((c &gt; b) &amp;&amp; 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bd189"/>
                </a:solidFill>
                <a:latin typeface="Arial"/>
              </a:rPr>
              <a:t>Solution TP1.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int x = 5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int y = 10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cout &lt;&lt; x * y &lt;&lt; endl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bd189"/>
                </a:solidFill>
                <a:latin typeface="Arial"/>
              </a:rPr>
              <a:t>Solution TP1.2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#include &lt;iostream&gt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using namespace std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void main(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int x, y, z; </a:t>
            </a:r>
            <a:r>
              <a:rPr b="0" lang="fr-CH" sz="1400" spc="-1" strike="noStrike">
                <a:solidFill>
                  <a:srgbClr val="009900"/>
                </a:solidFill>
                <a:latin typeface="Arial"/>
              </a:rPr>
              <a:t>// les 3 valeur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cout &lt;&lt; "Entrez la 1ere valeur : "; </a:t>
            </a:r>
            <a:r>
              <a:rPr b="0" lang="fr-CH" sz="1400" spc="-1" strike="noStrike">
                <a:solidFill>
                  <a:srgbClr val="009900"/>
                </a:solidFill>
                <a:latin typeface="Arial"/>
              </a:rPr>
              <a:t>// saisie des valeur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cin &gt;&gt; x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cout &lt;&lt; "Entrez la 2eme valeur : "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cin &gt;&gt; y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cout &lt;&lt; "Entrez la 3eme valeur : "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cin &gt;&gt; z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if ((x &gt;= y) &amp;&amp; (x &gt;= z)) 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009900"/>
                </a:solidFill>
                <a:latin typeface="Arial"/>
              </a:rPr>
              <a:t>// x est-il le max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cout &lt;&lt; "Le max est : " &lt;&lt; x &lt;&lt; endl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else 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if (y &gt;= z)  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009900"/>
                </a:solidFill>
                <a:latin typeface="Arial"/>
              </a:rPr>
              <a:t>// sinon entre y et z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cout &lt;&lt; "Le max est : " &lt;&lt; y &lt;&lt; endl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else 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009900"/>
                </a:solidFill>
                <a:latin typeface="Arial"/>
              </a:rPr>
              <a:t>// il reste plus que z 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cout &lt;&lt; "Le max est : " &lt;&lt; z &lt;&lt; endl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bd189"/>
                </a:solidFill>
                <a:latin typeface="Arial"/>
              </a:rPr>
              <a:t>Solution Exerc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Evaluez les expressions ci-dess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eaeaea"/>
                </a:solidFill>
                <a:latin typeface="Arial"/>
              </a:rPr>
              <a:t>a = 5, b = 4, c = 8, d = true, e = fal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(a &gt;=b) ¦¦ e         </a:t>
            </a: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cab4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d &amp;&amp; (c &lt;= b) </a:t>
            </a: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cab40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e ¦¦ ((c &gt; b) &amp;&amp; d)</a:t>
            </a: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cab4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4:47:18Z</dcterms:created>
  <dc:creator>giacomo</dc:creator>
  <dc:description/>
  <dc:language>en-US</dc:language>
  <cp:lastModifiedBy>giacomo</cp:lastModifiedBy>
  <dcterms:modified xsi:type="dcterms:W3CDTF">2002-11-13T09:12:41Z</dcterms:modified>
  <cp:revision>9</cp:revision>
  <dc:subject/>
  <dc:title>TP1</dc:title>
</cp:coreProperties>
</file>