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9B9-B253-4A42-8838-2D6972B3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6BB-E17A-431B-B472-A9F47D31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021-A683-406C-9B8E-A1F69B34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2FE-A163-475B-B263-C6B7B39F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E0E2-FB0B-4A86-BC58-7D3204F4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0C52-3832-4B19-8C87-BEC1261A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4203-1161-472F-850B-B64E94F9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A838-CED4-4008-ACD7-7D80C0A8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3B0F-4513-47A7-8D08-C2B6269B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AB22-CAD2-4709-B185-907A7933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0EC5-1AEE-4AA9-8D68-EB6A951F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40E-793F-4F5A-98CA-A83A6AC1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31AA-99EA-438A-8ADD-6DBB1EAC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F872-BE8A-4561-9B09-902A974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29EF-D093-4862-B158-6D06245E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2D4D-BB78-4989-AFAA-70136C75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D79A-08EA-4FE1-B4D0-AAB55B17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7BA-3C4A-446C-BE34-653A300F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4B9-3FBE-4189-A40F-531E5524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219-876C-4D36-AA8A-B63395B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74B-7FA0-4ABA-AF81-9120F79D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30D-8A93-4C62-B2AB-2DAED007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030-B6F4-4AE3-A627-8B9F5037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50B-618C-49FA-9686-5BFE4037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1CAB-2BFF-4336-AE1F-B73DF26CA3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2715-86DC-4B21-8431-579CB23B753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bd189"/>
                </a:solidFill>
                <a:latin typeface="Arial"/>
              </a:rPr>
              <a:t>TP 5</a:t>
            </a:r>
            <a:br>
              <a:rPr sz="4400"/>
            </a:br>
            <a:r>
              <a:rPr b="0" lang="fr-CH" sz="4400" spc="-1" strike="noStrike">
                <a:solidFill>
                  <a:srgbClr val="ebd189"/>
                </a:solidFill>
                <a:latin typeface="Arial"/>
              </a:rPr>
              <a:t>Introduction à l’Obj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Récupérer le fichier tp5.zip sur le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Le but du TP consiste à compléter les fichiers Livre.java et TestLivre.jav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Livre.java contient la classe Livre, avec des constructeurs, des méthod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TestLivre.java contient le main(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00:37Z</dcterms:created>
  <dc:creator>giacomo</dc:creator>
  <dc:description/>
  <dc:language>en-US</dc:language>
  <cp:lastModifiedBy>giacomo</cp:lastModifiedBy>
  <dcterms:modified xsi:type="dcterms:W3CDTF">2003-01-15T14:57:21Z</dcterms:modified>
  <cp:revision>43</cp:revision>
  <dc:subject/>
  <dc:title>Exercices</dc:title>
</cp:coreProperties>
</file>