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682-B4AF-4F93-838E-4A926DD2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97B-9E68-4EEE-A93D-CBF4A623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4B3-55E6-4B64-88D0-3D814A43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EDD-8FC2-42A0-A394-80E1F483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F73A-FB1A-48DA-98A6-20888EBA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20A1-9D74-4E34-8638-1506A7EE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8B1F-140A-455A-A810-0F43B6E7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E036-39B5-4B20-A2C6-E8D83184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6EFC-2E91-40EE-BF97-F1B50F24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6FA1-F16E-4951-9CD6-96E08AE5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B9A6-900A-4F59-8290-B6D65A2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8C5-0276-4818-A270-E0C58BF1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AE07-1FD6-4677-9C35-3D5F0F44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2AA2-6A30-48F1-A74E-EF013021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9418-A96E-432B-A4B0-C0B09F94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2D5B-0885-4DFE-8639-DBE02DCB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DDC3-D514-4E37-AE1B-2C974E56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027-DBFC-4E5E-8DFB-60280282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27F-0926-4082-AFBE-A6C1CB32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D60-3994-447D-82EC-FDB2D84D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C9A-630E-4360-B286-18061385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F93-E45B-4777-9565-23933C5F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6E0-7367-4DE1-92C3-864AD5BC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5DE-C581-4582-9848-31A95393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B5A4-869D-4448-924B-D2BB37E66EE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D27F-83D8-40C6-A1F4-1D61B533686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152280"/>
            <a:ext cx="7772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void main(){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int nbATrouver; 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CH" sz="1200" spc="-1" strike="noStrike">
                <a:solidFill>
                  <a:srgbClr val="009900"/>
                </a:solidFill>
                <a:latin typeface="Arial"/>
              </a:rPr>
              <a:t>// nombre entre 0 et 5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int nbSaisi;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9900"/>
                </a:solidFill>
                <a:latin typeface="Arial"/>
              </a:rPr>
              <a:t>// nombres saisis par l'utilisateu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string nomJoueur;  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9900"/>
                </a:solidFill>
                <a:latin typeface="Arial"/>
              </a:rPr>
              <a:t>// nom du joueu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int nbCoup = 1; 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9900"/>
                </a:solidFill>
                <a:latin typeface="Arial"/>
              </a:rPr>
              <a:t>// nombre de coup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nbATrouver = random();  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9900"/>
                </a:solidFill>
                <a:latin typeface="Arial"/>
              </a:rPr>
              <a:t>// initialisation du nombre a trouv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cout &lt;&lt; "Entre ton prenom: "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cin &gt;&gt; nomJoueur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cout &lt;&lt; nomJoueur &lt;&lt; ", entre un nombre entre 0 et 50 (99 pour quitter): "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cin &gt;&gt; nbSaisi;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9900"/>
                </a:solidFill>
                <a:latin typeface="Arial"/>
              </a:rPr>
              <a:t>// saisie initiale du nombr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while ((nbSaisi!=99)&amp;&amp;(nbSaisi!=nbATrouver)&amp;&amp;(nbSaisi&gt;=0)&amp;&amp;(nbSaisi&lt;=50)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nbCoup++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if (nbSaisi&lt;nbATrouver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cout &lt;&lt; "Le nombre a trouver est plus grand que " &lt;&lt; nbSaisi &lt;&lt; endl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cout &lt;&lt; "Le nombre a trouver est plus petit que " &lt;&lt; nbSaisi &lt;&lt; endl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cout &lt;&lt; "Entre un nouveau nombre " &lt;&lt; nomJoueur &lt;&lt; ": "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cin &gt;&gt; nbSaisi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if (nbSaisi==nbATrouver)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CH" sz="1200" spc="-1" strike="noStrike">
                <a:solidFill>
                  <a:srgbClr val="009900"/>
                </a:solidFill>
                <a:latin typeface="Arial"/>
              </a:rPr>
              <a:t>// gagna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cout &lt;&lt; "Bravo " &lt;&lt; nomJoueur &lt;&lt; ", tu as trouve en " &lt;&lt; nbCoup &lt;&lt; " coups" &lt;&lt; endl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if (((nbSaisi&lt;0) || (nbSaisi&gt;50)) &amp;&amp; (nbSaisi!=99)) 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9900"/>
                </a:solidFill>
                <a:latin typeface="Arial"/>
              </a:rPr>
              <a:t>// perda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cout &lt;&lt; "Perdu! Entre 0 et 50 le nombre!" &lt;&lt; endl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if (nbSaisi==99)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CH" sz="1200" spc="-1" strike="noStrike">
                <a:solidFill>
                  <a:srgbClr val="009900"/>
                </a:solidFill>
                <a:latin typeface="Arial"/>
              </a:rPr>
              <a:t>// qui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cout &lt;&lt; "Tu fuies!!" &lt;&lt; endl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4:47:18Z</dcterms:created>
  <dc:creator>giacomo</dc:creator>
  <dc:description/>
  <dc:language>en-US</dc:language>
  <cp:lastModifiedBy>lyard</cp:lastModifiedBy>
  <dcterms:modified xsi:type="dcterms:W3CDTF">2003-11-21T16:36:51Z</dcterms:modified>
  <cp:revision>18</cp:revision>
  <dc:subject/>
  <dc:title>TP1</dc:title>
</cp:coreProperties>
</file>